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9644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896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428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9644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7896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9000" y="138240"/>
            <a:ext cx="541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428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9000" y="138240"/>
            <a:ext cx="541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7000"/>
          </a:bodyPr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45040" indent="-17388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9836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19160" indent="-162720">
              <a:spcBef>
                <a:spcPts val="21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19160" indent="-1627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19160" indent="-1627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14480" y="138240"/>
            <a:ext cx="2552400" cy="1228320"/>
            <a:chOff x="114480" y="138240"/>
            <a:chExt cx="2552400" cy="1228320"/>
          </a:xfrm>
        </p:grpSpPr>
        <p:grpSp>
          <p:nvGrpSpPr>
            <p:cNvPr id="40" name=""/>
            <p:cNvGrpSpPr/>
            <p:nvPr/>
          </p:nvGrpSpPr>
          <p:grpSpPr>
            <a:xfrm>
              <a:off x="114480" y="138240"/>
              <a:ext cx="2369520" cy="1113480"/>
              <a:chOff x="114480" y="138240"/>
              <a:chExt cx="2369520" cy="1113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0240" y="138240"/>
                <a:ext cx="2003760" cy="88740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14480" y="381600"/>
                <a:ext cx="522720" cy="64404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933120" y="381600"/>
                <a:ext cx="662040" cy="64404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47720" y="381600"/>
                <a:ext cx="400680" cy="644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100960" y="381600"/>
                <a:ext cx="383040" cy="64404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480" y="1077840"/>
                <a:ext cx="2247840" cy="17388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248560" y="949320"/>
              <a:ext cx="418320" cy="41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AM3U-EK Dem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955880" cy="195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4280" y="1447920"/>
            <a:ext cx="6543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63000"/>
          </a:bodyPr>
          <a:p>
            <a:pPr marL="119880" indent="-11988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This page is for you to download demo ppt Sam3DEMO.bin into the nandflash di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Use SAMBA to format the Nandflash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to your right, 2 disks should appear on your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Copy the Sam3DEMO.bin, SamDEMOV.bin, movie.bin and mp3 files to the nandflash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eset the board to load p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09-12-17T06:59:36Z</dcterms:modified>
  <cp:revision>344</cp:revision>
  <dc:subject/>
  <dc:title>Slide 1</dc:title>
</cp:coreProperties>
</file>