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AB48-3541-42F0-A650-393A5B16FC2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A7E6-B97A-44B9-A4FB-EE8848D26988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F5E7E2B-4E7E-4CA1-8EF8-ACD53892B1CD}" type="slidenum">
              <a:rPr b="0" lang="en-GB" sz="13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slideshow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 slideshow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calendar -checkout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 calendar -set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calendar -checkou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 calendar -se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temperature star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 temperatur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temperature start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 temperatur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statusbar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 statusbar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 mp3play re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 mp3play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powersave back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powersave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 slidepage go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powersave sl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 slidepage go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14280" y="3828600"/>
            <a:ext cx="8524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14280" y="382860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82520" y="382860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96440" y="144792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78960" y="144792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4280" y="382860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196440" y="382860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78960" y="382860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429000" y="138240"/>
            <a:ext cx="541008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4280" y="382860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2520" y="382860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4280" y="3828600"/>
            <a:ext cx="8524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4280" y="3828600"/>
            <a:ext cx="8524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4280" y="382860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2520" y="382860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6440" y="144792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8960" y="144792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4280" y="382860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6440" y="382860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8960" y="382860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9000" y="138240"/>
            <a:ext cx="541008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14280" y="382860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2520" y="382860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14280" y="3828600"/>
            <a:ext cx="8524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5"/>
          <p:cNvSpPr/>
          <p:nvPr/>
        </p:nvSpPr>
        <p:spPr>
          <a:xfrm>
            <a:off x="2162160" y="6408720"/>
            <a:ext cx="478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body"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7000"/>
          </a:bodyPr>
          <a:p>
            <a:pPr marL="184680" indent="-18468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18288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45040" indent="-173880">
              <a:spcBef>
                <a:spcPts val="2100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744840" indent="-198360">
              <a:spcBef>
                <a:spcPts val="2100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019160" indent="-162720">
              <a:spcBef>
                <a:spcPts val="2100"/>
              </a:spcBef>
              <a:buClr>
                <a:srgbClr val="9cc94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019160" indent="-162720">
              <a:spcBef>
                <a:spcPts val="21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019160" indent="-162720">
              <a:spcBef>
                <a:spcPts val="21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550520" y="80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114480" y="138240"/>
            <a:ext cx="2552400" cy="1228320"/>
            <a:chOff x="114480" y="138240"/>
            <a:chExt cx="2552400" cy="1228320"/>
          </a:xfrm>
        </p:grpSpPr>
        <p:grpSp>
          <p:nvGrpSpPr>
            <p:cNvPr id="40" name=""/>
            <p:cNvGrpSpPr/>
            <p:nvPr/>
          </p:nvGrpSpPr>
          <p:grpSpPr>
            <a:xfrm>
              <a:off x="114480" y="138240"/>
              <a:ext cx="2369520" cy="1113480"/>
              <a:chOff x="114480" y="138240"/>
              <a:chExt cx="2369520" cy="1113480"/>
            </a:xfrm>
          </p:grpSpPr>
          <p:sp>
            <p:nvSpPr>
              <p:cNvPr id="41" name=""/>
              <p:cNvSpPr/>
              <p:nvPr/>
            </p:nvSpPr>
            <p:spPr>
              <a:xfrm>
                <a:off x="480240" y="138240"/>
                <a:ext cx="2003760" cy="887400"/>
              </a:xfrm>
              <a:custGeom>
                <a:avLst/>
                <a:gdLst/>
                <a:ahLst/>
                <a:rect l="l" t="t" r="r" b="b"/>
                <a:pathLst>
                  <a:path w="115" h="51">
                    <a:moveTo>
                      <a:pt x="0" y="11"/>
                    </a:moveTo>
                    <a:lnTo>
                      <a:pt x="7" y="0"/>
                    </a:lnTo>
                    <a:lnTo>
                      <a:pt x="115" y="0"/>
                    </a:lnTo>
                    <a:lnTo>
                      <a:pt x="115" y="11"/>
                    </a:lnTo>
                    <a:lnTo>
                      <a:pt x="23" y="11"/>
                    </a:lnTo>
                    <a:lnTo>
                      <a:pt x="23" y="51"/>
                    </a:lnTo>
                    <a:lnTo>
                      <a:pt x="12" y="51"/>
                    </a:lnTo>
                    <a:lnTo>
                      <a:pt x="12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14480" y="381600"/>
                <a:ext cx="522720" cy="644040"/>
              </a:xfrm>
              <a:custGeom>
                <a:avLst/>
                <a:gdLst/>
                <a:ahLst/>
                <a:rect l="l" t="t" r="r" b="b"/>
                <a:pathLst>
                  <a:path w="30" h="37">
                    <a:moveTo>
                      <a:pt x="20" y="0"/>
                    </a:moveTo>
                    <a:lnTo>
                      <a:pt x="30" y="0"/>
                    </a:lnTo>
                    <a:lnTo>
                      <a:pt x="30" y="37"/>
                    </a:lnTo>
                    <a:lnTo>
                      <a:pt x="19" y="37"/>
                    </a:lnTo>
                    <a:lnTo>
                      <a:pt x="19" y="23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7"/>
                    </a:lnTo>
                    <a:lnTo>
                      <a:pt x="0" y="3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933120" y="381600"/>
                <a:ext cx="662040" cy="64404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0" y="0"/>
                    </a:moveTo>
                    <a:lnTo>
                      <a:pt x="0" y="37"/>
                    </a:lnTo>
                    <a:lnTo>
                      <a:pt x="11" y="37"/>
                    </a:lnTo>
                    <a:lnTo>
                      <a:pt x="11" y="5"/>
                    </a:lnTo>
                    <a:lnTo>
                      <a:pt x="14" y="5"/>
                    </a:lnTo>
                    <a:lnTo>
                      <a:pt x="14" y="37"/>
                    </a:lnTo>
                    <a:lnTo>
                      <a:pt x="24" y="37"/>
                    </a:lnTo>
                    <a:lnTo>
                      <a:pt x="24" y="5"/>
                    </a:lnTo>
                    <a:cubicBezTo>
                      <a:pt x="26" y="5"/>
                      <a:pt x="27" y="6"/>
                      <a:pt x="27" y="8"/>
                    </a:cubicBezTo>
                    <a:lnTo>
                      <a:pt x="27" y="37"/>
                    </a:lnTo>
                    <a:lnTo>
                      <a:pt x="38" y="37"/>
                    </a:lnTo>
                    <a:lnTo>
                      <a:pt x="38" y="7"/>
                    </a:lnTo>
                    <a:cubicBezTo>
                      <a:pt x="38" y="2"/>
                      <a:pt x="34" y="0"/>
                      <a:pt x="3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647720" y="381600"/>
                <a:ext cx="400680" cy="64404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0" y="0"/>
                    </a:moveTo>
                    <a:lnTo>
                      <a:pt x="23" y="0"/>
                    </a:lnTo>
                    <a:lnTo>
                      <a:pt x="23" y="11"/>
                    </a:lnTo>
                    <a:lnTo>
                      <a:pt x="8" y="11"/>
                    </a:lnTo>
                    <a:lnTo>
                      <a:pt x="8" y="14"/>
                    </a:lnTo>
                    <a:lnTo>
                      <a:pt x="23" y="14"/>
                    </a:lnTo>
                    <a:lnTo>
                      <a:pt x="23" y="24"/>
                    </a:lnTo>
                    <a:lnTo>
                      <a:pt x="8" y="24"/>
                    </a:lnTo>
                    <a:lnTo>
                      <a:pt x="8" y="27"/>
                    </a:lnTo>
                    <a:lnTo>
                      <a:pt x="23" y="27"/>
                    </a:lnTo>
                    <a:lnTo>
                      <a:pt x="23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100960" y="381600"/>
                <a:ext cx="383040" cy="64404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0" y="0"/>
                    </a:moveTo>
                    <a:lnTo>
                      <a:pt x="11" y="0"/>
                    </a:lnTo>
                    <a:lnTo>
                      <a:pt x="11" y="27"/>
                    </a:lnTo>
                    <a:lnTo>
                      <a:pt x="22" y="27"/>
                    </a:lnTo>
                    <a:lnTo>
                      <a:pt x="16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14480" y="1077840"/>
                <a:ext cx="2247840" cy="173880"/>
              </a:xfrm>
              <a:custGeom>
                <a:avLst/>
                <a:gdLst/>
                <a:ahLst/>
                <a:rect l="l" t="t" r="r" b="b"/>
                <a:pathLst>
                  <a:path w="129" h="10">
                    <a:moveTo>
                      <a:pt x="129" y="0"/>
                    </a:moveTo>
                    <a:lnTo>
                      <a:pt x="123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2248560" y="949320"/>
              <a:ext cx="418320" cy="41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28.png"/><Relationship Id="rId4" Type="http://schemas.openxmlformats.org/officeDocument/2006/relationships/image" Target="../media/image18.png"/><Relationship Id="rId5" Type="http://schemas.openxmlformats.org/officeDocument/2006/relationships/image" Target="../media/image28.png"/><Relationship Id="rId6" Type="http://schemas.openxmlformats.org/officeDocument/2006/relationships/image" Target="../media/image1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7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10.png"/><Relationship Id="rId6" Type="http://schemas.openxmlformats.org/officeDocument/2006/relationships/image" Target="../media/image1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7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6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7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5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"/>
          <p:cNvSpPr/>
          <p:nvPr/>
        </p:nvSpPr>
        <p:spPr>
          <a:xfrm>
            <a:off x="4497480" y="6564240"/>
            <a:ext cx="3315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1DF6-C399-439C-B109-C161658F8855}" type="slidenum">
              <a:rPr b="0" lang="de-DE" sz="800" spc="-1" strike="noStrike">
                <a:solidFill>
                  <a:srgbClr val="80808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687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38dd"/>
                </a:solidFill>
                <a:latin typeface="Arial"/>
                <a:ea typeface="宋体"/>
              </a:rPr>
              <a:t>SAM3U-EK Setting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39840" y="4952880"/>
            <a:ext cx="996840" cy="1648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38080" y="2320920"/>
            <a:ext cx="1946520" cy="1946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886200" y="2435400"/>
            <a:ext cx="1644480" cy="1644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705720" y="2320920"/>
            <a:ext cx="1946160" cy="1946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3886200" y="4832280"/>
            <a:ext cx="1644480" cy="1644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Setup Dat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2438280"/>
            <a:ext cx="60195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457200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440" y="4572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92760" y="457200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4873680"/>
            <a:ext cx="996840" cy="1647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919160" y="137484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919160" y="320364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657600" y="137160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3657600" y="318276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5486400" y="137160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5486400" y="3182760"/>
            <a:ext cx="1216080" cy="12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Setup Tim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12920" y="141768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962520" y="141768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212920" y="322884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3962520" y="3228840"/>
            <a:ext cx="1216080" cy="1216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05120" y="2463840"/>
            <a:ext cx="5029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72760" y="459756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52600" y="45975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304920" y="4952880"/>
            <a:ext cx="996840" cy="1648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5614920" y="141768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5614920" y="3203640"/>
            <a:ext cx="1216080" cy="1216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91320" y="459756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LCD Backligh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477120" y="24382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124080" y="2286000"/>
            <a:ext cx="2916360" cy="2916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352680" y="5334120"/>
            <a:ext cx="2935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304920" y="4876920"/>
            <a:ext cx="996840" cy="1647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Temperature Monitor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2000" y="5321160"/>
            <a:ext cx="2960640" cy="911520"/>
          </a:xfrm>
          <a:prstGeom prst="roundRect">
            <a:avLst>
              <a:gd name="adj" fmla="val 3515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Fahrenhe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996840" cy="1647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200400" y="2971800"/>
            <a:ext cx="239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Temperature Monitor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2971800"/>
            <a:ext cx="239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12000" y="5321160"/>
            <a:ext cx="2960640" cy="911520"/>
          </a:xfrm>
          <a:prstGeom prst="roundRect">
            <a:avLst>
              <a:gd name="adj" fmla="val 3515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els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04920" y="4894200"/>
            <a:ext cx="996840" cy="1647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Play Movi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Copy movie.bin into SDcard or Nandflas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Click the icon to play the sample mov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Press the LCD to stop pl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14280" y="4846680"/>
            <a:ext cx="996840" cy="1647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057400" y="3581280"/>
            <a:ext cx="1700280" cy="1700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752480" y="5715000"/>
            <a:ext cx="7239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38dd"/>
                </a:solidFill>
                <a:latin typeface="Arial"/>
                <a:ea typeface="宋体"/>
              </a:rPr>
              <a:t>SAM3U-EK Informatio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3276720"/>
            <a:ext cx="7245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AT91SAM3U-EK demo version 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77120" y="1617840"/>
            <a:ext cx="1461960" cy="1461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380880" y="4876920"/>
            <a:ext cx="997200" cy="1647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SAM3U-EK Demo Hom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908680"/>
            <a:ext cx="91440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1427040"/>
            <a:ext cx="1955880" cy="1955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455920" y="1441440"/>
            <a:ext cx="1946160" cy="1946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782960" y="1441440"/>
            <a:ext cx="1946520" cy="1946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7197840" y="1417680"/>
            <a:ext cx="1946160" cy="1946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19200" y="3733920"/>
            <a:ext cx="1946160" cy="1946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3581280" y="3886200"/>
            <a:ext cx="1946520" cy="1946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6892920" y="3886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Flash Disk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Connect the board to your PC through a USB 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Click the ic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2 disks shall appear on P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one for SD card, one for Nandflas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4829040"/>
            <a:ext cx="996840" cy="1648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486400" y="1981080"/>
            <a:ext cx="1955880" cy="1955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454040" y="4537080"/>
            <a:ext cx="708660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Audio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Plug an headphone on J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Copy audio files into SDcard or Nandflas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14280" y="4846680"/>
            <a:ext cx="996840" cy="1647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52480" y="5715000"/>
            <a:ext cx="7239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994520" y="4724280"/>
            <a:ext cx="997200" cy="1648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429000" y="3352680"/>
            <a:ext cx="1700280" cy="170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Audio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14280" y="4846680"/>
            <a:ext cx="996840" cy="1647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0880" y="1417680"/>
            <a:ext cx="1700280" cy="1700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556000" y="1417680"/>
            <a:ext cx="1699920" cy="1700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683240" y="1417680"/>
            <a:ext cx="1699920" cy="1700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7139160" y="2602080"/>
            <a:ext cx="1699920" cy="1699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139160" y="4014720"/>
            <a:ext cx="1699920" cy="1700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7139160" y="1095480"/>
            <a:ext cx="1699920" cy="1700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2514600" y="3398760"/>
            <a:ext cx="1700280" cy="1700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4759200" y="3398760"/>
            <a:ext cx="1700280" cy="1700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139160" y="5884920"/>
            <a:ext cx="2004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54040" y="5715000"/>
            <a:ext cx="54802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38dd"/>
                </a:solidFill>
                <a:latin typeface="Arial"/>
                <a:ea typeface="宋体"/>
              </a:rPr>
              <a:t>SAM3U-EK Low Power Mode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05120" y="20574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774880" y="3657600"/>
            <a:ext cx="1306440" cy="1306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486160" y="5257800"/>
            <a:ext cx="1928520" cy="1928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040360" y="2286000"/>
            <a:ext cx="4637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BACKUP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40360" y="3962520"/>
            <a:ext cx="4637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WAIT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40360" y="5715000"/>
            <a:ext cx="4637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SLEEP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14280" y="4890960"/>
            <a:ext cx="996840" cy="1648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38dd"/>
                </a:solidFill>
                <a:latin typeface="Arial"/>
                <a:ea typeface="宋体"/>
              </a:rPr>
              <a:t>SAM3U-EK Low Power Mode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19520" y="1066680"/>
            <a:ext cx="1581120" cy="1581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593720" y="2971800"/>
            <a:ext cx="7245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70000"/>
          </a:bodyPr>
          <a:p>
            <a:pPr marL="133200" indent="-1332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BACKUP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Power consumption: 2.5 µ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Press USR-LEFT button to wake-up. Note: this will reset the de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38dd"/>
                </a:solidFill>
                <a:latin typeface="Arial"/>
                <a:ea typeface="宋体"/>
              </a:rPr>
              <a:t>SAM3U-EK Low Power Mode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743200" y="1359000"/>
            <a:ext cx="1700280" cy="1700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593720" y="3059280"/>
            <a:ext cx="7245360" cy="21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WAIT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Power consumption: 15 µ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Press USR-LEFT button to wak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38dd"/>
                </a:solidFill>
                <a:latin typeface="Arial"/>
                <a:ea typeface="宋体"/>
              </a:rPr>
              <a:t>SAM3U-EK Low Power Mode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93720" y="2971800"/>
            <a:ext cx="7245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7000"/>
          </a:bodyPr>
          <a:p>
            <a:pPr marL="165600" indent="-1656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SLEEP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5600" indent="-1656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Power consumption: 17 µ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5600" indent="-1656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Press USR-LEFT button to wak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5600" indent="-1656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0" y="914400"/>
            <a:ext cx="2604960" cy="2604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4:58:27Z</dcterms:created>
  <dc:creator>Atmel RFO</dc:creator>
  <dc:description/>
  <dc:language>en-US</dc:language>
  <cp:lastModifiedBy>alex.long</cp:lastModifiedBy>
  <dcterms:modified xsi:type="dcterms:W3CDTF">2010-03-22T07:34:11Z</dcterms:modified>
  <cp:revision>464</cp:revision>
  <dc:subject/>
  <dc:title>Slide 1</dc:title>
</cp:coreProperties>
</file>