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078F-D9CA-416E-86E5-BA4AA72930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nitCmds: slideshow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loseCmds: slideshow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statusbar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statusbar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mp3play re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mp3play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sl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9796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940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652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39796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5940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71480" y="184320"/>
            <a:ext cx="4057560" cy="79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9796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940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3652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39796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5940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571480" y="184320"/>
            <a:ext cx="4057560" cy="79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5"/>
          <p:cNvSpPr/>
          <p:nvPr/>
        </p:nvSpPr>
        <p:spPr>
          <a:xfrm>
            <a:off x="1622520" y="8545680"/>
            <a:ext cx="3587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21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163160" y="107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79360" y="369720"/>
            <a:ext cx="1914120" cy="1136880"/>
            <a:chOff x="279360" y="369720"/>
            <a:chExt cx="1914120" cy="1136880"/>
          </a:xfrm>
        </p:grpSpPr>
        <p:grpSp>
          <p:nvGrpSpPr>
            <p:cNvPr id="40" name=""/>
            <p:cNvGrpSpPr/>
            <p:nvPr/>
          </p:nvGrpSpPr>
          <p:grpSpPr>
            <a:xfrm>
              <a:off x="279360" y="369720"/>
              <a:ext cx="1777320" cy="1030320"/>
              <a:chOff x="279360" y="369720"/>
              <a:chExt cx="1777320" cy="1030320"/>
            </a:xfrm>
          </p:grpSpPr>
          <p:sp>
            <p:nvSpPr>
              <p:cNvPr id="41" name=""/>
              <p:cNvSpPr/>
              <p:nvPr/>
            </p:nvSpPr>
            <p:spPr>
              <a:xfrm>
                <a:off x="553680" y="369720"/>
                <a:ext cx="1503000" cy="82116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79360" y="595080"/>
                <a:ext cx="392040" cy="59580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93520" y="595080"/>
                <a:ext cx="496800" cy="595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29560" y="595080"/>
                <a:ext cx="300600" cy="59580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69400" y="595080"/>
                <a:ext cx="287280" cy="5958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9360" y="1239120"/>
                <a:ext cx="1686240" cy="16092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879920" y="1120320"/>
              <a:ext cx="313560" cy="3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image" Target="../media/image27.png"/><Relationship Id="rId6" Type="http://schemas.openxmlformats.org/officeDocument/2006/relationships/image" Target="../media/image1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Setting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5600" y="662940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28560" y="30942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14560" y="32464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29200" y="30942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855880" y="6443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Dat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246480"/>
            <a:ext cx="6019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25600" y="60958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6680" y="609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9880" y="609588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649764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27240" y="2052720"/>
            <a:ext cx="914400" cy="1147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95280" y="4272120"/>
            <a:ext cx="914400" cy="1149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674800" y="2049480"/>
            <a:ext cx="914400" cy="1146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43200" y="4243320"/>
            <a:ext cx="914400" cy="114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199040" y="2049480"/>
            <a:ext cx="914400" cy="114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267080" y="4243320"/>
            <a:ext cx="914400" cy="114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Ti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911160" cy="1149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912960" cy="114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4305240"/>
            <a:ext cx="911160" cy="118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971800" y="4305240"/>
            <a:ext cx="912960" cy="1181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3471840"/>
            <a:ext cx="5181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7960" y="6129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82680" y="6129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28600" y="660384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4422600" y="2362320"/>
            <a:ext cx="911520" cy="1149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422600" y="4272120"/>
            <a:ext cx="911520" cy="1214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6840" y="61293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LCD Backligh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314964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57840" y="3251160"/>
            <a:ext cx="1800000" cy="1801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67080" y="3230640"/>
            <a:ext cx="1800000" cy="179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4600" y="7112160"/>
            <a:ext cx="2201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28600" y="6502320"/>
            <a:ext cx="99684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7094520"/>
            <a:ext cx="2538360" cy="121608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6811920"/>
            <a:ext cx="996840" cy="164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05120" y="3962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625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7094520"/>
            <a:ext cx="2538360" cy="121608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els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6811920"/>
            <a:ext cx="996840" cy="164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Play Movi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movie.bin into SDcard or Nandfla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to play the sample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ress the LCD to stop 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6659640"/>
            <a:ext cx="997200" cy="1646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2960" y="4775040"/>
            <a:ext cx="1800360" cy="1801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219320" y="6934320"/>
            <a:ext cx="54291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Inform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368960"/>
            <a:ext cx="543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T91SAM3U-EK demo vers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21574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85840" y="6502320"/>
            <a:ext cx="99684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AM3U-EK Demo Ho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0120"/>
            <a:ext cx="70866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19033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49520" y="19224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06920" y="190512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3520" y="388620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571840" y="3962520"/>
            <a:ext cx="1800000" cy="180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06920" y="3992400"/>
            <a:ext cx="1800360" cy="179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28600" y="5970600"/>
            <a:ext cx="180036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Flash Disk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nnect the board to your PC through a USB 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 disks shall appear on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one for SD card, one for Nand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3080" y="643896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29040" y="2641680"/>
            <a:ext cx="1800360" cy="180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90680" y="5943600"/>
            <a:ext cx="50864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lug an headphone on J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audio files into SDcard or Nandfla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71840" y="4292640"/>
            <a:ext cx="1619280" cy="2006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6160" y="701028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632560" y="7010280"/>
            <a:ext cx="99684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890720"/>
            <a:ext cx="1716120" cy="16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01880" y="1890720"/>
            <a:ext cx="1716120" cy="169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01640" y="3951360"/>
            <a:ext cx="1698840" cy="16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52880" y="3589200"/>
            <a:ext cx="1716120" cy="169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989600" y="532296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930920" y="1752480"/>
            <a:ext cx="1698480" cy="169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2801880" y="3951360"/>
            <a:ext cx="1698840" cy="169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2801880" y="5867280"/>
            <a:ext cx="1698840" cy="1698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2960" y="7021440"/>
            <a:ext cx="1905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285840" y="7021440"/>
            <a:ext cx="996840" cy="164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82680" y="8153280"/>
            <a:ext cx="5346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0880" y="259092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97200" y="4800600"/>
            <a:ext cx="172404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668600" y="6705720"/>
            <a:ext cx="2278080" cy="2274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95760" y="3048120"/>
            <a:ext cx="3478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5760" y="5283360"/>
            <a:ext cx="3478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5760" y="7358040"/>
            <a:ext cx="3478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2280" y="6521400"/>
            <a:ext cx="99720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14640" y="1706400"/>
            <a:ext cx="1800000" cy="179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95560" y="3962520"/>
            <a:ext cx="54338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1000"/>
          </a:bodyPr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2.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. Note: this will reset the de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7400" y="18111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95560" y="4078440"/>
            <a:ext cx="543384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95560" y="3962520"/>
            <a:ext cx="54338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5000"/>
          </a:bodyPr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7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14680" y="211932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10-03-22T07:45:45Z</dcterms:modified>
  <cp:revision>517</cp:revision>
  <dc:subject/>
  <dc:title>Slide 1</dc:title>
</cp:coreProperties>
</file>